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1A8-D32B-413D-9CB3-BB2BE27D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572-63FF-44EE-9FE3-413233C1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AC1-FF11-43F2-A799-03E0716A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5E2-9298-4BE7-B349-269E6F15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BA1-44EE-4A24-83FC-9F3CC125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DE1-4E5F-4E5E-A692-939EDD17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1E6-BD63-4F2E-BD2C-308A9F86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EE2-C4E7-4594-8A1F-4F0BA945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EC3-D005-464E-96F1-3FE773B3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65E-9AF8-4931-8808-83906D8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157-2B70-4C2F-971C-719A8206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24E-0DC4-44E4-94E1-A50F9440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9883-6319-4A6A-A42D-B0AAF3D8C9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JLubecka\Ustawienia lokalne\Temporary Internet Files\Content.IE5\AJY4M1XL\Roman Dmowski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413000"/>
            <a:ext cx="7632720" cy="4229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Utworzony został 15.08.1917 roku w Lozannie z inicjatywy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omana Dmowskiego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. Siedzibą Komitetu był Pary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skład Komitetu wchodzili m.in. Ignacy Jan Paderewski, Erazm Piltz, Stanisław Kozicki, Marian Seyda, Maurycy Zamoy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Celem Komitetu było organizowanie Armii Polskiej we Francji oraz współpraca z rządami Francji, Wielkiej Brytanii, Włoch, i USA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kwestii reprezentowania interesów odradzającego się państwa Polsk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Po utworzeniu w styczniu 1919 roku rządu Ignacego Paderewskiego, Komitet stał się oficjalnym reprezentantem rządu Polskiego podczas Paryskiej Konferencji Pokojowej oraz rzecznikiem jego interesów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trakcie Wersalsk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1:01Z</dcterms:created>
  <dc:creator>rena</dc:creator>
  <dc:description/>
  <dc:language>en-US</dc:language>
  <cp:lastModifiedBy>IB</cp:lastModifiedBy>
  <dcterms:modified xsi:type="dcterms:W3CDTF">2013-03-14T17:05:13Z</dcterms:modified>
  <cp:revision>10</cp:revision>
  <dc:subject/>
  <dc:title>PowerPoint Presentation</dc:title>
</cp:coreProperties>
</file>